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C8D-8E06-4B07-8C8C-1A21D868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089-BD18-44CC-9F52-DADADCFE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012-B6FA-4676-87A0-1F35296D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B12-D0EF-462D-8333-03EB9B6E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AD1-383C-40FD-9A3E-56168273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868-4C73-4610-B6DD-FDEA9AF9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1FE-E76F-4185-9449-8E2CB262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288-5A9A-4879-9269-5CBE391D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5D9-009B-4678-BF94-8430EC24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041-8108-4A3F-9F34-66025DE3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25A-3898-4858-9B63-177F585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CC1-E41F-42DD-A7C9-FEC68E9C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4A7-6F8E-4561-B767-51154AFD4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adered.com/rrr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oeHand 2"/>
              </a:rPr>
              <a:t>Is Your Lesson Rigorous and Relev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eHand 2"/>
              </a:rPr>
              <a:t>Exploring the Rigor and Relevant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eHand 2"/>
              </a:rPr>
              <a:t>Exploring Questio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allenge: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Who can name the levels of Bloom in 10 seconds or les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alibri"/>
              </a:rPr>
              <a:t>Do you think about Bloom when you plan your activit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joeHand 2"/>
              </a:rPr>
              <a:t>In CCPS the Rigor/Relevance Framework is used to determine the level of rigor of your lesson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the purpose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rigorous lesson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fferentiates Instruction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creases student achiev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termines the level of questions to ask your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or/Relevance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eadered.com/rrr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rcRect l="11721" t="16666" r="12500" b="10420"/>
          <a:stretch/>
        </p:blipFill>
        <p:spPr>
          <a:xfrm>
            <a:off x="1447920" y="1638360"/>
            <a:ext cx="66294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ahaj\Desktop\Blackboard-psd10951.png"/>
          <p:cNvPicPr/>
          <p:nvPr/>
        </p:nvPicPr>
        <p:blipFill>
          <a:blip r:embed="rId1"/>
          <a:srcRect l="-94" t="0" r="-2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17970" t="22917" r="17970" b="36462"/>
          <a:stretch/>
        </p:blipFill>
        <p:spPr>
          <a:xfrm>
            <a:off x="1447920" y="1447920"/>
            <a:ext cx="624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joeHand 2"/>
              </a:rPr>
              <a:t>Your Tas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oeHand 2"/>
              </a:rPr>
              <a:t>Use your lesson plan to determine the rigor of your lesson activities and objectiv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oeHand 2"/>
              </a:rPr>
              <a:t>How would you change your activities to increase the rigor/relevance?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oeHand 2"/>
              </a:rPr>
              <a:t>Develop and Identify the five questions to match your rigorous activitie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Sahaj\Desktop\Blackboard-psd10951.png"/>
          <p:cNvPicPr/>
          <p:nvPr/>
        </p:nvPicPr>
        <p:blipFill>
          <a:blip r:embed="rId1"/>
          <a:stretch/>
        </p:blipFill>
        <p:spPr>
          <a:xfrm>
            <a:off x="936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ere is the part you changed or improved? (Knowled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 How is this different from the original? (Comprehens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 How will you use this in your classroom? (Applica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.  In what quadrant did you classify the change? (Analy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. What other ways could you increase the rigor in this activity? (Synthesi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.  Do you agree that the level of rigor in this lesson will increase student learning? Explain? (Evalua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5:02:44Z</dcterms:created>
  <dc:creator>ccps</dc:creator>
  <dc:description/>
  <cp:keywords/>
  <dc:language>en-US</dc:language>
  <cp:lastModifiedBy>ccps</cp:lastModifiedBy>
  <dcterms:modified xsi:type="dcterms:W3CDTF">2010-11-08T18:29:54Z</dcterms:modified>
  <cp:revision>6</cp:revision>
  <dc:subject/>
  <dc:title>Is Your Lesson Rigorous and Relevant?</dc:title>
</cp:coreProperties>
</file>